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DE8-8A21-4D21-8E47-0F51D602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843-2F91-4D16-B7E4-2C2E4BFF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A36-E3F4-47B2-AE66-CF3E479A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F27-6296-4A89-B256-69A5D08B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994-DF95-47E8-BD2A-D13C0AA0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F5F-BFD7-4F26-B6C4-F62ED74E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CD7F-33D9-4A63-888C-862DC911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FDC-267E-449A-9AAB-04761D8A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F24-4B57-4101-B1BF-2EF26999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DEF-60C6-4416-99E1-D7717F11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188-C780-4A03-8D7A-9CF620E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64E-397E-4F1A-A037-9203E44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B10A-A8FC-4D65-B520-A75CDC768053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latinum TTM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osef Baure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/05/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latinum CM reques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Platinum is one of 10 core projec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Platinum DS 06.07 planned (according SWM DS is for retail version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DS 07.07 possible for operators acc. SWM (as Koala is here lead, if no Koala lead then 08.07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CM reque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Platinum DS 05.07 for operator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latinum most critical featur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SI voice recognitio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easibility investigation started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some features identified as risk already (e.g. voice control inside navigation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GPS/A-GP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irst implementation of new HW and SW (RFR6275 not working on EVB so far, no SW implementation available today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latinum TT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Critical line is SW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Investigation was done how to come to an earlier DS for operator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2348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SWM: Scenario Platinum DS in 04/2007 (= 1st operator approval in 06/2007!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1) Immediate start with Platinum specific features not possible due to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Voice Control and A-GPS solution still not clarified nor system concept defined, nor ISVs selected </a:t>
            </a:r>
            <a:r>
              <a:rPr b="0" lang="de-DE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no imediate start possible as required for early IOTs and DS in 04/2007 = high risk and potential delay of D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Resources for Voice Control and A-GPS (Munich experts) involved in Kestrel and DSP handover from AAL during June 20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High risk for DS in 04/2007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Koala had to get a timeout of 2 months leading to DS in 06/2007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2) Risk reduction (especially for IOT) possible if fully A-GPS enabled HW is available early (Dec 200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3) Overall SW load situation very similar as with Koala due to identical operator requirements of Koala and Platinum (still a req. reduction needed due to overloa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4) Koala touch screen and landscape application mode already very well prepared for immediate sta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5) Biggest challenge for whole platform is huge operator requirements (many big changes) and so expected long approval cycles with operator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DS Retail in 04/2007 leads to a first operator approval in 06/2007 (Koala or Platinum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Roland Puscher</dc:creator>
  <dc:description/>
  <dc:language>en-US</dc:language>
  <cp:lastModifiedBy> </cp:lastModifiedBy>
  <dcterms:modified xsi:type="dcterms:W3CDTF">2006-05-22T06:30:28Z</dcterms:modified>
  <cp:revision>141</cp:revision>
  <dc:subject/>
  <dc:title>PowerPoint 簡報</dc:title>
</cp:coreProperties>
</file>